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B90-8FF2-4BD7-A10B-A20ED152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0C1-374C-4F77-A874-79975FF5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2F9-18EE-473A-8533-B3BCCD68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FF9-A6EC-47F2-BB91-108463D2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BDF-13FA-47DB-B067-B15C4E76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319-AF19-4360-AEA8-1880C683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CC3-FF02-4A19-BE76-E812B2D3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CFA-E2AD-45BA-9729-090FF521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C10-09A8-4B4C-831A-45AA6445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899-E106-440B-A584-535DD59E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1C5-5D61-4D90-B235-9F85BDDB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FC9-CBEA-4633-B1A9-AC098B8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6B58-A8FB-4B97-A458-F31DC7CB3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F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HGMaruGothicMPRO"/>
                <a:ea typeface="HGMaruGothicMPRO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CUS FOR INV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HGMaruGothicMPRO"/>
                <a:ea typeface="HGMaruGothicMPRO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STIG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TO CREEP BACK 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TO COMB THE W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HGMaruGothicMPRO"/>
                <a:ea typeface="HGMaruGothicMPRO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CKED C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HGMaruGothicMPRO"/>
                <a:ea typeface="HGMaruGothicMPRO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RRI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CL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HGMaruGothicMPRO"/>
                <a:ea typeface="HGMaruGothicMPRO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TO M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HGMaruGothicMPRO"/>
                <a:ea typeface="HGMaruGothicMPRO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STER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TO POINT THE FINGER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TO DEN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HGMaruGothicMPRO"/>
                <a:ea typeface="HGMaruGothicMPRO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HGMaruGothicMPRO"/>
                <a:ea typeface="HGMaruGothicMPRO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ANY 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HGMaruGothicMPRO"/>
                <a:ea typeface="HGMaruGothicMPRO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LE IN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TO CARRY OUT R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TO BRING S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HGMaruGothicMPRO"/>
                <a:ea typeface="HGMaruGothicMPRO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SPECTS IN FOR 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MaruGothicMPRO"/>
                <a:ea typeface="HGMaruGothicMPRO"/>
              </a:rPr>
              <a:t>LOVE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7:00:55Z</dcterms:created>
  <dc:creator>SSTROBEL</dc:creator>
  <dc:description/>
  <dc:language>en-US</dc:language>
  <cp:lastModifiedBy>SSTROBEL</cp:lastModifiedBy>
  <dcterms:modified xsi:type="dcterms:W3CDTF">2006-07-21T17:04:13Z</dcterms:modified>
  <cp:revision>3</cp:revision>
  <dc:subject/>
  <dc:title>FOCUS FOR INVESTIGATORS</dc:title>
</cp:coreProperties>
</file>