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FD8-F53C-4BFB-A2FD-78DA29B5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522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D2F-A5F6-4A77-A7FC-A6C0FE01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522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1349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794-6E00-49AE-957B-03F1F833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7802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4079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522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7802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4079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2D4E-9BBB-4BE9-809A-8890C890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7AA5-D885-4609-A7C2-C9E40E9E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0E0C-3C6C-4933-996E-160FB5B9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E884-9E75-46B0-AB4E-E1855F2E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349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508C-B187-4BA6-A836-432AA878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9C65-1425-4D88-ACC9-9BFD2D7E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848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B953-7C32-4E0B-9ADC-F1B20643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349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2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1FAA-72F6-4E13-9E5C-DB28134E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C66-F087-4B9F-8264-181F2541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1349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1349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1EF6-2147-431A-9782-C20EDA49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349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2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4243-F32E-4886-AFF0-5916C59A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522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62B9-6A9F-47B5-83D7-C96ECFCB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349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522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1349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76F2-0983-4E27-B960-EDB28F00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7802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079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522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7802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4079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5774-3CD5-4F9A-BC4C-1371A6B6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DAE-3227-453D-8FE1-F7A56AB4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349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629-2F99-4EEE-B04B-9011FEF6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98B-0160-4BE3-AF33-D894CC38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848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0C9-44F3-4630-A960-09071E29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349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023-5394-43F4-8889-2B10ABC9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349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349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906-BAD1-4348-BA35-5DC78DB9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349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2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44F-3A24-4F7C-B8D7-1E412E7A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1a9"/>
            </a:gs>
            <a:gs pos="100000">
              <a:srgbClr val="81bec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" y="-20520"/>
            <a:ext cx="9144360" cy="6899040"/>
            <a:chOff x="-360" y="-20520"/>
            <a:chExt cx="9144360" cy="6899040"/>
          </a:xfrm>
        </p:grpSpPr>
        <p:grpSp>
          <p:nvGrpSpPr>
            <p:cNvPr id="1" name=""/>
            <p:cNvGrpSpPr/>
            <p:nvPr/>
          </p:nvGrpSpPr>
          <p:grpSpPr>
            <a:xfrm>
              <a:off x="7086600" y="1066680"/>
              <a:ext cx="2057400" cy="5811840"/>
              <a:chOff x="7086600" y="1066680"/>
              <a:chExt cx="2057400" cy="5811840"/>
            </a:xfrm>
          </p:grpSpPr>
          <p:sp>
            <p:nvSpPr>
              <p:cNvPr id="2" name=""/>
              <p:cNvSpPr/>
              <p:nvPr/>
            </p:nvSpPr>
            <p:spPr>
              <a:xfrm>
                <a:off x="7086600" y="1066680"/>
                <a:ext cx="1839960" cy="5811840"/>
              </a:xfrm>
              <a:custGeom>
                <a:avLst/>
                <a:gdLst/>
                <a:ahLst/>
                <a:rect l="l" t="t" r="r" b="b"/>
                <a:pathLst>
                  <a:path w="1159" h="3661">
                    <a:moveTo>
                      <a:pt x="969" y="0"/>
                    </a:moveTo>
                    <a:cubicBezTo>
                      <a:pt x="0" y="521"/>
                      <a:pt x="31" y="3034"/>
                      <a:pt x="62" y="3644"/>
                    </a:cubicBezTo>
                    <a:lnTo>
                      <a:pt x="1154" y="3661"/>
                    </a:lnTo>
                    <a:lnTo>
                      <a:pt x="1159" y="146"/>
                    </a:lnTo>
                    <a:lnTo>
                      <a:pt x="96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192d"/>
                  </a:gs>
                  <a:gs pos="50000">
                    <a:srgbClr val="134c89"/>
                  </a:gs>
                  <a:gs pos="100000">
                    <a:srgbClr val="0619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a4292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304040" y="1066680"/>
                <a:ext cx="1839960" cy="5786640"/>
              </a:xfrm>
              <a:custGeom>
                <a:avLst/>
                <a:gdLst/>
                <a:ahLst/>
                <a:rect l="l" t="t" r="r" b="b"/>
                <a:pathLst>
                  <a:path w="1159" h="3645">
                    <a:moveTo>
                      <a:pt x="969" y="0"/>
                    </a:moveTo>
                    <a:cubicBezTo>
                      <a:pt x="0" y="521"/>
                      <a:pt x="31" y="3034"/>
                      <a:pt x="62" y="3644"/>
                    </a:cubicBezTo>
                    <a:lnTo>
                      <a:pt x="1150" y="3645"/>
                    </a:lnTo>
                    <a:lnTo>
                      <a:pt x="1159" y="146"/>
                    </a:lnTo>
                    <a:lnTo>
                      <a:pt x="96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a4292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467480" y="1397160"/>
                <a:ext cx="1675080" cy="5460840"/>
              </a:xfrm>
              <a:custGeom>
                <a:avLst/>
                <a:gdLst/>
                <a:ahLst/>
                <a:rect l="l" t="t" r="r" b="b"/>
                <a:pathLst>
                  <a:path w="1055" h="3440">
                    <a:moveTo>
                      <a:pt x="1055" y="0"/>
                    </a:moveTo>
                    <a:cubicBezTo>
                      <a:pt x="236" y="439"/>
                      <a:pt x="0" y="2852"/>
                      <a:pt x="46" y="3440"/>
                    </a:cubicBezTo>
                    <a:lnTo>
                      <a:pt x="1055" y="3440"/>
                    </a:lnTo>
                    <a:lnTo>
                      <a:pt x="1055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a4292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450200" y="1138320"/>
                <a:ext cx="1693800" cy="5724360"/>
              </a:xfrm>
              <a:custGeom>
                <a:avLst/>
                <a:gdLst/>
                <a:ahLst/>
                <a:rect l="l" t="t" r="r" b="b"/>
                <a:pathLst>
                  <a:path w="1067" h="3606">
                    <a:moveTo>
                      <a:pt x="44" y="3600"/>
                    </a:moveTo>
                    <a:cubicBezTo>
                      <a:pt x="0" y="3102"/>
                      <a:pt x="277" y="337"/>
                      <a:pt x="1067" y="0"/>
                    </a:cubicBezTo>
                    <a:lnTo>
                      <a:pt x="1067" y="255"/>
                    </a:lnTo>
                    <a:cubicBezTo>
                      <a:pt x="569" y="1162"/>
                      <a:pt x="154" y="2230"/>
                      <a:pt x="125" y="3606"/>
                    </a:cubicBezTo>
                    <a:lnTo>
                      <a:pt x="44" y="3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192d"/>
                  </a:gs>
                  <a:gs pos="50000">
                    <a:srgbClr val="134c89"/>
                  </a:gs>
                  <a:gs pos="100000">
                    <a:srgbClr val="0619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a4292"/>
                  </a:solidFill>
                  <a:latin typeface="Arial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-360" y="-20520"/>
              <a:ext cx="2057400" cy="5811840"/>
              <a:chOff x="-360" y="-20520"/>
              <a:chExt cx="2057400" cy="5811840"/>
            </a:xfrm>
          </p:grpSpPr>
          <p:sp>
            <p:nvSpPr>
              <p:cNvPr id="7" name=""/>
              <p:cNvSpPr/>
              <p:nvPr/>
            </p:nvSpPr>
            <p:spPr>
              <a:xfrm rot="10800000">
                <a:off x="217080" y="-20520"/>
                <a:ext cx="1839960" cy="5811840"/>
              </a:xfrm>
              <a:custGeom>
                <a:avLst/>
                <a:gdLst/>
                <a:ahLst/>
                <a:rect l="l" t="t" r="r" b="b"/>
                <a:pathLst>
                  <a:path w="1159" h="3661">
                    <a:moveTo>
                      <a:pt x="969" y="0"/>
                    </a:moveTo>
                    <a:cubicBezTo>
                      <a:pt x="0" y="521"/>
                      <a:pt x="31" y="3034"/>
                      <a:pt x="62" y="3644"/>
                    </a:cubicBezTo>
                    <a:lnTo>
                      <a:pt x="1154" y="3661"/>
                    </a:lnTo>
                    <a:lnTo>
                      <a:pt x="1159" y="146"/>
                    </a:lnTo>
                    <a:lnTo>
                      <a:pt x="96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192d"/>
                  </a:gs>
                  <a:gs pos="50000">
                    <a:srgbClr val="134c89"/>
                  </a:gs>
                  <a:gs pos="100000">
                    <a:srgbClr val="0619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a4292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10800000">
                <a:off x="0" y="4680"/>
                <a:ext cx="1839960" cy="5786640"/>
              </a:xfrm>
              <a:custGeom>
                <a:avLst/>
                <a:gdLst/>
                <a:ahLst/>
                <a:rect l="l" t="t" r="r" b="b"/>
                <a:pathLst>
                  <a:path w="1159" h="3645">
                    <a:moveTo>
                      <a:pt x="969" y="0"/>
                    </a:moveTo>
                    <a:cubicBezTo>
                      <a:pt x="0" y="521"/>
                      <a:pt x="31" y="3034"/>
                      <a:pt x="62" y="3644"/>
                    </a:cubicBezTo>
                    <a:lnTo>
                      <a:pt x="1150" y="3645"/>
                    </a:lnTo>
                    <a:lnTo>
                      <a:pt x="1159" y="146"/>
                    </a:lnTo>
                    <a:lnTo>
                      <a:pt x="969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a4292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rot="10800000">
                <a:off x="1080" y="0"/>
                <a:ext cx="1675080" cy="5460840"/>
              </a:xfrm>
              <a:custGeom>
                <a:avLst/>
                <a:gdLst/>
                <a:ahLst/>
                <a:rect l="l" t="t" r="r" b="b"/>
                <a:pathLst>
                  <a:path w="1055" h="3440">
                    <a:moveTo>
                      <a:pt x="1055" y="0"/>
                    </a:moveTo>
                    <a:cubicBezTo>
                      <a:pt x="236" y="439"/>
                      <a:pt x="0" y="2852"/>
                      <a:pt x="46" y="3440"/>
                    </a:cubicBezTo>
                    <a:lnTo>
                      <a:pt x="1055" y="3440"/>
                    </a:lnTo>
                    <a:lnTo>
                      <a:pt x="1055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a4292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rot="10800000">
                <a:off x="0" y="-4680"/>
                <a:ext cx="1693800" cy="5724360"/>
              </a:xfrm>
              <a:custGeom>
                <a:avLst/>
                <a:gdLst/>
                <a:ahLst/>
                <a:rect l="l" t="t" r="r" b="b"/>
                <a:pathLst>
                  <a:path w="1067" h="3606">
                    <a:moveTo>
                      <a:pt x="44" y="3600"/>
                    </a:moveTo>
                    <a:cubicBezTo>
                      <a:pt x="0" y="3102"/>
                      <a:pt x="277" y="337"/>
                      <a:pt x="1067" y="0"/>
                    </a:cubicBezTo>
                    <a:lnTo>
                      <a:pt x="1067" y="255"/>
                    </a:lnTo>
                    <a:cubicBezTo>
                      <a:pt x="569" y="1162"/>
                      <a:pt x="154" y="2230"/>
                      <a:pt x="125" y="3606"/>
                    </a:cubicBezTo>
                    <a:lnTo>
                      <a:pt x="44" y="3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192d"/>
                  </a:gs>
                  <a:gs pos="50000">
                    <a:srgbClr val="134c89"/>
                  </a:gs>
                  <a:gs pos="100000">
                    <a:srgbClr val="0619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a4292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0" y="879480"/>
              <a:ext cx="8077320" cy="5999040"/>
            </a:xfrm>
            <a:prstGeom prst="rect">
              <a:avLst/>
            </a:prstGeom>
            <a:gradFill rotWithShape="0">
              <a:gsLst>
                <a:gs pos="0">
                  <a:srgbClr val="81bec3"/>
                </a:gs>
                <a:gs pos="100000">
                  <a:srgbClr val="6581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4292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gradFill rotWithShape="0">
            <a:gsLst>
              <a:gs pos="0">
                <a:srgbClr val="0c1d40"/>
              </a:gs>
              <a:gs pos="50000">
                <a:srgbClr val="1a4292"/>
              </a:gs>
              <a:gs pos="100000">
                <a:srgbClr val="0c1d40"/>
              </a:gs>
            </a:gsLst>
            <a:lin ang="5400000"/>
          </a:gradFill>
          <a:ln w="9360">
            <a:solidFill>
              <a:srgbClr val="6581a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522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d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1a42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d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a4292"/>
              </a:buClr>
              <a:buSzPct val="65000"/>
              <a:buFont typeface="Monotype Sort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d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a42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d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a4292"/>
              </a:buClr>
              <a:buSzPct val="65000"/>
              <a:buFont typeface="Monotype Sort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d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1a4292"/>
              </a:buClr>
              <a:buSzPct val="65000"/>
              <a:buFont typeface="Monotype Sort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d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1a4292"/>
              </a:buClr>
              <a:buSzPct val="65000"/>
              <a:buFont typeface="Monotype Sort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d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a4292"/>
                </a:solidFill>
                <a:latin typeface="Times New Roman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4292"/>
                </a:solidFill>
                <a:latin typeface="Times New Roman"/>
                <a:ea typeface="MS P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a4292"/>
                </a:solidFill>
                <a:latin typeface="Times New Roman"/>
                <a:ea typeface="MS P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4292"/>
                </a:solidFill>
                <a:latin typeface="Times New Roman"/>
                <a:ea typeface="MS P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6019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a4292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91FB-FB93-42F2-BF10-BFE0062BFCA3}" type="slidenum">
              <a:rPr b="0" lang="en-US" sz="1400" spc="-1" strike="noStrike">
                <a:solidFill>
                  <a:srgbClr val="1a4292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1a9"/>
            </a:gs>
            <a:gs pos="100000">
              <a:srgbClr val="81bec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-360" y="-20520"/>
            <a:ext cx="9144360" cy="6899040"/>
            <a:chOff x="-360" y="-20520"/>
            <a:chExt cx="9144360" cy="6899040"/>
          </a:xfrm>
        </p:grpSpPr>
        <p:grpSp>
          <p:nvGrpSpPr>
            <p:cNvPr id="54" name=""/>
            <p:cNvGrpSpPr/>
            <p:nvPr/>
          </p:nvGrpSpPr>
          <p:grpSpPr>
            <a:xfrm>
              <a:off x="7086600" y="1066680"/>
              <a:ext cx="2057400" cy="5811840"/>
              <a:chOff x="7086600" y="1066680"/>
              <a:chExt cx="2057400" cy="5811840"/>
            </a:xfrm>
          </p:grpSpPr>
          <p:sp>
            <p:nvSpPr>
              <p:cNvPr id="55" name=""/>
              <p:cNvSpPr/>
              <p:nvPr/>
            </p:nvSpPr>
            <p:spPr>
              <a:xfrm>
                <a:off x="7086600" y="1066680"/>
                <a:ext cx="1839960" cy="5811840"/>
              </a:xfrm>
              <a:custGeom>
                <a:avLst/>
                <a:gdLst/>
                <a:ahLst/>
                <a:rect l="l" t="t" r="r" b="b"/>
                <a:pathLst>
                  <a:path w="1159" h="3661">
                    <a:moveTo>
                      <a:pt x="969" y="0"/>
                    </a:moveTo>
                    <a:cubicBezTo>
                      <a:pt x="0" y="521"/>
                      <a:pt x="31" y="3034"/>
                      <a:pt x="62" y="3644"/>
                    </a:cubicBezTo>
                    <a:lnTo>
                      <a:pt x="1154" y="3661"/>
                    </a:lnTo>
                    <a:lnTo>
                      <a:pt x="1159" y="146"/>
                    </a:lnTo>
                    <a:lnTo>
                      <a:pt x="96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192d"/>
                  </a:gs>
                  <a:gs pos="50000">
                    <a:srgbClr val="134c89"/>
                  </a:gs>
                  <a:gs pos="100000">
                    <a:srgbClr val="0619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a4292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04040" y="1066680"/>
                <a:ext cx="1839960" cy="5786640"/>
              </a:xfrm>
              <a:custGeom>
                <a:avLst/>
                <a:gdLst/>
                <a:ahLst/>
                <a:rect l="l" t="t" r="r" b="b"/>
                <a:pathLst>
                  <a:path w="1159" h="3645">
                    <a:moveTo>
                      <a:pt x="969" y="0"/>
                    </a:moveTo>
                    <a:cubicBezTo>
                      <a:pt x="0" y="521"/>
                      <a:pt x="31" y="3034"/>
                      <a:pt x="62" y="3644"/>
                    </a:cubicBezTo>
                    <a:lnTo>
                      <a:pt x="1150" y="3645"/>
                    </a:lnTo>
                    <a:lnTo>
                      <a:pt x="1159" y="146"/>
                    </a:lnTo>
                    <a:lnTo>
                      <a:pt x="96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a4292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7480" y="1397160"/>
                <a:ext cx="1675080" cy="5460840"/>
              </a:xfrm>
              <a:custGeom>
                <a:avLst/>
                <a:gdLst/>
                <a:ahLst/>
                <a:rect l="l" t="t" r="r" b="b"/>
                <a:pathLst>
                  <a:path w="1055" h="3440">
                    <a:moveTo>
                      <a:pt x="1055" y="0"/>
                    </a:moveTo>
                    <a:cubicBezTo>
                      <a:pt x="236" y="439"/>
                      <a:pt x="0" y="2852"/>
                      <a:pt x="46" y="3440"/>
                    </a:cubicBezTo>
                    <a:lnTo>
                      <a:pt x="1055" y="3440"/>
                    </a:lnTo>
                    <a:lnTo>
                      <a:pt x="1055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a4292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450200" y="1138320"/>
                <a:ext cx="1693800" cy="5724360"/>
              </a:xfrm>
              <a:custGeom>
                <a:avLst/>
                <a:gdLst/>
                <a:ahLst/>
                <a:rect l="l" t="t" r="r" b="b"/>
                <a:pathLst>
                  <a:path w="1067" h="3606">
                    <a:moveTo>
                      <a:pt x="44" y="3600"/>
                    </a:moveTo>
                    <a:cubicBezTo>
                      <a:pt x="0" y="3102"/>
                      <a:pt x="277" y="337"/>
                      <a:pt x="1067" y="0"/>
                    </a:cubicBezTo>
                    <a:lnTo>
                      <a:pt x="1067" y="255"/>
                    </a:lnTo>
                    <a:cubicBezTo>
                      <a:pt x="569" y="1162"/>
                      <a:pt x="154" y="2230"/>
                      <a:pt x="125" y="3606"/>
                    </a:cubicBezTo>
                    <a:lnTo>
                      <a:pt x="44" y="3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192d"/>
                  </a:gs>
                  <a:gs pos="50000">
                    <a:srgbClr val="134c89"/>
                  </a:gs>
                  <a:gs pos="100000">
                    <a:srgbClr val="0619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a4292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-360" y="-20520"/>
              <a:ext cx="2057400" cy="5811840"/>
              <a:chOff x="-360" y="-20520"/>
              <a:chExt cx="2057400" cy="5811840"/>
            </a:xfrm>
          </p:grpSpPr>
          <p:sp>
            <p:nvSpPr>
              <p:cNvPr id="60" name=""/>
              <p:cNvSpPr/>
              <p:nvPr/>
            </p:nvSpPr>
            <p:spPr>
              <a:xfrm rot="10800000">
                <a:off x="217080" y="-20520"/>
                <a:ext cx="1839960" cy="5811840"/>
              </a:xfrm>
              <a:custGeom>
                <a:avLst/>
                <a:gdLst/>
                <a:ahLst/>
                <a:rect l="l" t="t" r="r" b="b"/>
                <a:pathLst>
                  <a:path w="1159" h="3661">
                    <a:moveTo>
                      <a:pt x="969" y="0"/>
                    </a:moveTo>
                    <a:cubicBezTo>
                      <a:pt x="0" y="521"/>
                      <a:pt x="31" y="3034"/>
                      <a:pt x="62" y="3644"/>
                    </a:cubicBezTo>
                    <a:lnTo>
                      <a:pt x="1154" y="3661"/>
                    </a:lnTo>
                    <a:lnTo>
                      <a:pt x="1159" y="146"/>
                    </a:lnTo>
                    <a:lnTo>
                      <a:pt x="96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192d"/>
                  </a:gs>
                  <a:gs pos="50000">
                    <a:srgbClr val="134c89"/>
                  </a:gs>
                  <a:gs pos="100000">
                    <a:srgbClr val="0619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a4292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0800000">
                <a:off x="0" y="4680"/>
                <a:ext cx="1839960" cy="5786640"/>
              </a:xfrm>
              <a:custGeom>
                <a:avLst/>
                <a:gdLst/>
                <a:ahLst/>
                <a:rect l="l" t="t" r="r" b="b"/>
                <a:pathLst>
                  <a:path w="1159" h="3645">
                    <a:moveTo>
                      <a:pt x="969" y="0"/>
                    </a:moveTo>
                    <a:cubicBezTo>
                      <a:pt x="0" y="521"/>
                      <a:pt x="31" y="3034"/>
                      <a:pt x="62" y="3644"/>
                    </a:cubicBezTo>
                    <a:lnTo>
                      <a:pt x="1150" y="3645"/>
                    </a:lnTo>
                    <a:lnTo>
                      <a:pt x="1159" y="146"/>
                    </a:lnTo>
                    <a:lnTo>
                      <a:pt x="969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a4292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0800000">
                <a:off x="1080" y="0"/>
                <a:ext cx="1675080" cy="5460840"/>
              </a:xfrm>
              <a:custGeom>
                <a:avLst/>
                <a:gdLst/>
                <a:ahLst/>
                <a:rect l="l" t="t" r="r" b="b"/>
                <a:pathLst>
                  <a:path w="1055" h="3440">
                    <a:moveTo>
                      <a:pt x="1055" y="0"/>
                    </a:moveTo>
                    <a:cubicBezTo>
                      <a:pt x="236" y="439"/>
                      <a:pt x="0" y="2852"/>
                      <a:pt x="46" y="3440"/>
                    </a:cubicBezTo>
                    <a:lnTo>
                      <a:pt x="1055" y="3440"/>
                    </a:lnTo>
                    <a:lnTo>
                      <a:pt x="1055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a4292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0800000">
                <a:off x="0" y="-4680"/>
                <a:ext cx="1693800" cy="5724360"/>
              </a:xfrm>
              <a:custGeom>
                <a:avLst/>
                <a:gdLst/>
                <a:ahLst/>
                <a:rect l="l" t="t" r="r" b="b"/>
                <a:pathLst>
                  <a:path w="1067" h="3606">
                    <a:moveTo>
                      <a:pt x="44" y="3600"/>
                    </a:moveTo>
                    <a:cubicBezTo>
                      <a:pt x="0" y="3102"/>
                      <a:pt x="277" y="337"/>
                      <a:pt x="1067" y="0"/>
                    </a:cubicBezTo>
                    <a:lnTo>
                      <a:pt x="1067" y="255"/>
                    </a:lnTo>
                    <a:cubicBezTo>
                      <a:pt x="569" y="1162"/>
                      <a:pt x="154" y="2230"/>
                      <a:pt x="125" y="3606"/>
                    </a:cubicBezTo>
                    <a:lnTo>
                      <a:pt x="44" y="3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192d"/>
                  </a:gs>
                  <a:gs pos="50000">
                    <a:srgbClr val="134c89"/>
                  </a:gs>
                  <a:gs pos="100000">
                    <a:srgbClr val="0619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a4292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0" y="1523880"/>
              <a:ext cx="7543800" cy="5354640"/>
            </a:xfrm>
            <a:prstGeom prst="rect">
              <a:avLst/>
            </a:prstGeom>
            <a:gradFill rotWithShape="0">
              <a:gsLst>
                <a:gs pos="0">
                  <a:srgbClr val="81bec3"/>
                </a:gs>
                <a:gs pos="100000">
                  <a:srgbClr val="6581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4292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1447920"/>
            <a:ext cx="8001000" cy="2133360"/>
          </a:xfrm>
          <a:prstGeom prst="rect">
            <a:avLst/>
          </a:prstGeom>
          <a:gradFill rotWithShape="0">
            <a:gsLst>
              <a:gs pos="0">
                <a:srgbClr val="0c1d40"/>
              </a:gs>
              <a:gs pos="50000">
                <a:srgbClr val="1a4292"/>
              </a:gs>
              <a:gs pos="100000">
                <a:srgbClr val="0c1d4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a4292"/>
                </a:solidFill>
                <a:latin typeface="Times New Roman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4292"/>
                </a:solidFill>
                <a:latin typeface="Times New Roman"/>
                <a:ea typeface="MS P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2314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a4292"/>
                </a:solidFill>
                <a:latin typeface="Times New Roman"/>
                <a:ea typeface="MS P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4292"/>
                </a:solidFill>
                <a:latin typeface="Times New Roman"/>
                <a:ea typeface="MS P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a4292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7B7C-0466-44BB-BF78-C668042541D5}" type="slidenum">
              <a:rPr b="0" lang="en-US" sz="1400" spc="-1" strike="noStrike">
                <a:solidFill>
                  <a:srgbClr val="1a4292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d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c1d4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1d4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c1d4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a4292"/>
              </a:buClr>
              <a:buSzPct val="65000"/>
              <a:buFont typeface="Monotype Sorts" charset="2"/>
              <a:buChar char="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1d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a429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1d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c1d4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a4292"/>
              </a:buClr>
              <a:buSzPct val="65000"/>
              <a:buFont typeface="Monotype Sort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1d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c1d4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a4292"/>
              </a:buClr>
              <a:buSzPct val="65000"/>
              <a:buFont typeface="Monotype Sort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1d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c1d4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a4292"/>
              </a:buClr>
              <a:buSzPct val="65000"/>
              <a:buFont typeface="Monotype Sort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1d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c1d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1a9"/>
            </a:gs>
            <a:gs pos="100000">
              <a:srgbClr val="81bec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gradFill rotWithShape="0">
            <a:gsLst>
              <a:gs pos="0">
                <a:srgbClr val="0c1d40"/>
              </a:gs>
              <a:gs pos="50000">
                <a:srgbClr val="1a4292"/>
              </a:gs>
              <a:gs pos="100000">
                <a:srgbClr val="0c1d4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Gungsuh"/>
                <a:ea typeface="Gungsuh"/>
              </a:rPr>
              <a:t>TENNESSEE WILLIA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Tennessee Williams"/>
          <p:cNvPicPr/>
          <p:nvPr/>
        </p:nvPicPr>
        <p:blipFill>
          <a:blip r:embed="rId1"/>
          <a:stretch/>
        </p:blipFill>
        <p:spPr>
          <a:xfrm>
            <a:off x="755640" y="2133720"/>
            <a:ext cx="2941560" cy="4103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211640" y="2421360"/>
            <a:ext cx="30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1d40"/>
                </a:solidFill>
                <a:latin typeface="Verdana"/>
              </a:rPr>
              <a:t>Pseudônimo de Thomas Lanier Williams (Columbus, 26 de março de 1911 – Nova York, 25 de fevereiro de 1983), grande dramaturgo americano</a:t>
            </a:r>
            <a:endParaRPr b="0" lang="en-US" sz="2400" spc="-1" strike="noStrike">
              <a:solidFill>
                <a:srgbClr val="1a429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1a9"/>
            </a:gs>
            <a:gs pos="100000">
              <a:srgbClr val="81bec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9200" y="1773360"/>
            <a:ext cx="7948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c1d40"/>
                </a:solidFill>
                <a:latin typeface="Verdana"/>
              </a:rPr>
              <a:t>Esta é uma peça inteirinha sobre DESEJO. </a:t>
            </a:r>
            <a:endParaRPr b="0" lang="en-US" sz="22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c1d40"/>
                </a:solidFill>
                <a:latin typeface="Verdana"/>
              </a:rPr>
              <a:t>Adaptá-la no auge da censura do Código Hays não foi uma tarefa fácil. </a:t>
            </a:r>
            <a:endParaRPr b="0" lang="en-US" sz="22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c1d40"/>
                </a:solidFill>
                <a:latin typeface="Verdana"/>
              </a:rPr>
              <a:t>Os censores fizeram o possível para atenuar o desejo carnal que Stella sente pelo marido. </a:t>
            </a:r>
            <a:endParaRPr b="0" lang="en-US" sz="22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c1d40"/>
                </a:solidFill>
                <a:latin typeface="Verdana"/>
              </a:rPr>
              <a:t>Fala sobre o passado indecente de Blanche. </a:t>
            </a:r>
            <a:endParaRPr b="0" lang="en-US" sz="22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c1d40"/>
                </a:solidFill>
                <a:latin typeface="Verdana"/>
              </a:rPr>
              <a:t>Ela havia sido casada com um jovem, e descobre que ele é homossexual. </a:t>
            </a:r>
            <a:endParaRPr b="0" lang="en-US" sz="22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c1d40"/>
                </a:solidFill>
                <a:latin typeface="Verdana"/>
              </a:rPr>
              <a:t>Ele se mata, e ela se sente culpada (qualquer menção referente à opção sexual do suicida teve de ser retirada do filme)</a:t>
            </a:r>
            <a:endParaRPr b="0" lang="en-US" sz="22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c1d40"/>
                </a:solidFill>
                <a:latin typeface="Verdana"/>
              </a:rPr>
              <a:t>Quando os censores quiseram eliminar a cena do estupro – que é essencial –, Tennessee fincou o pé. </a:t>
            </a:r>
            <a:endParaRPr b="0" lang="en-US" sz="22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c1d40"/>
                </a:solidFill>
                <a:latin typeface="Verdana"/>
              </a:rPr>
              <a:t>Os censores a liberaram com uma condição: que Stanley fosse punido no fim, o que não acontece na peça. </a:t>
            </a:r>
            <a:endParaRPr b="0" lang="en-US" sz="22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gradFill rotWithShape="0">
            <a:gsLst>
              <a:gs pos="0">
                <a:srgbClr val="0c1d40"/>
              </a:gs>
              <a:gs pos="50000">
                <a:srgbClr val="1a4292"/>
              </a:gs>
              <a:gs pos="100000">
                <a:srgbClr val="0c1d40"/>
              </a:gs>
            </a:gsLst>
            <a:lin ang="5400000"/>
          </a:gradFill>
          <a:ln w="9360">
            <a:solidFill>
              <a:srgbClr val="6581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imes New Roman"/>
              </a:rPr>
              <a:t>UM BONDE CHAMADO DESEJ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1a9"/>
            </a:gs>
            <a:gs pos="100000">
              <a:srgbClr val="81bec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22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1d40"/>
                </a:solidFill>
                <a:latin typeface="Verdana"/>
              </a:rPr>
              <a:t>Um dos pontos críticos para os censores foi a dificuldade em dividir vilões e mocinhos. 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1d40"/>
                </a:solidFill>
                <a:latin typeface="Verdana"/>
              </a:rPr>
              <a:t>Stanley destrói Blanche, mas Blanche antes tenta destruir o casamento de Stanley, colocando a irmã contra ele. 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1d40"/>
                </a:solidFill>
                <a:latin typeface="Verdana"/>
              </a:rPr>
              <a:t>Blanche é manipuladora, invade o cortiço de Stanley e vive ofendendo-o, quando não está flertando com ele. 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1d40"/>
                </a:solidFill>
                <a:latin typeface="Verdana"/>
              </a:rPr>
              <a:t>Stanley é realista – ele seria o sobrevivente na lei do mais forte do darwinismo social. 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1d40"/>
                </a:solidFill>
                <a:latin typeface="Verdana"/>
              </a:rPr>
              <a:t>Blanche resume sua fraqueza ao suplicar: "eu não quero realismo! Quero magia!". 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gradFill rotWithShape="0">
            <a:gsLst>
              <a:gs pos="0">
                <a:srgbClr val="0c1d40"/>
              </a:gs>
              <a:gs pos="50000">
                <a:srgbClr val="1a4292"/>
              </a:gs>
              <a:gs pos="100000">
                <a:srgbClr val="0c1d40"/>
              </a:gs>
            </a:gsLst>
            <a:lin ang="5400000"/>
          </a:gradFill>
          <a:ln w="9360">
            <a:solidFill>
              <a:srgbClr val="6581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imes New Roman"/>
              </a:rPr>
              <a:t>UM BONDE CHAMADO DESEJ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1a9"/>
            </a:gs>
            <a:gs pos="100000">
              <a:srgbClr val="81bec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340000" y="1844640"/>
            <a:ext cx="5688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1d40"/>
                </a:solidFill>
                <a:latin typeface="Verdana"/>
              </a:rPr>
              <a:t>A família de Tennessee Williams era muito problemática, o que lhe serviu de inspiração para muitos de seus textos. Nasceu em Columbus, Mississippi, e sua família mudou-se para Clarksdale, Mississippi quando tinha 3 anos; a família mudou-se, novamente, desta vez para St. Louis, no Missouri em 1918. Seu pai, Cornelius Williams, era um vendedor de sapatos viajante, que tornou-se extremamente abusivo à medida que seus filhos cresciam.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</p:txBody>
      </p:sp>
      <p:pic>
        <p:nvPicPr>
          <p:cNvPr id="110" name="" descr="First home of Tennessee Williams"/>
          <p:cNvPicPr/>
          <p:nvPr/>
        </p:nvPicPr>
        <p:blipFill>
          <a:blip r:embed="rId1"/>
          <a:stretch/>
        </p:blipFill>
        <p:spPr>
          <a:xfrm>
            <a:off x="250920" y="2133720"/>
            <a:ext cx="2089080" cy="1558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3859200"/>
            <a:ext cx="16556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1d40"/>
                </a:solidFill>
                <a:latin typeface="Times New Roman"/>
              </a:rPr>
              <a:t>First home of Tennessee Williams in Columbus, Mississippi </a:t>
            </a:r>
            <a:endParaRPr b="0" lang="en-US" sz="2400" spc="-1" strike="noStrike">
              <a:solidFill>
                <a:srgbClr val="1a42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gradFill rotWithShape="0">
            <a:gsLst>
              <a:gs pos="0">
                <a:srgbClr val="0c1d40"/>
              </a:gs>
              <a:gs pos="50000">
                <a:srgbClr val="1a4292"/>
              </a:gs>
              <a:gs pos="100000">
                <a:srgbClr val="0c1d4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TENNESSEE WILLIA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1a9"/>
            </a:gs>
            <a:gs pos="100000">
              <a:srgbClr val="81bec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gradFill rotWithShape="0">
            <a:gsLst>
              <a:gs pos="0">
                <a:srgbClr val="0c1d40"/>
              </a:gs>
              <a:gs pos="50000">
                <a:srgbClr val="1a4292"/>
              </a:gs>
              <a:gs pos="100000">
                <a:srgbClr val="0c1d40"/>
              </a:gs>
            </a:gsLst>
            <a:lin ang="5400000"/>
          </a:gradFill>
          <a:ln w="9360">
            <a:solidFill>
              <a:srgbClr val="6581a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Gungsuh"/>
                <a:ea typeface="Gungsuh"/>
              </a:rPr>
              <a:t>PRODUÇÃO LITERÁ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83528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1d40"/>
                </a:solidFill>
                <a:latin typeface="Verdana"/>
              </a:rPr>
              <a:t>A produção literária de Tennessee Williams conta trinta e duas peças curtas, sete médias e vinte e quatro longas, assim como várias adaptações para o cinema e TV.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1d40"/>
                </a:solidFill>
                <a:latin typeface="Verdana"/>
              </a:rPr>
              <a:t>Suas tentativas de estabelecer uma produção literária para além dos cânones que o consagraram (</a:t>
            </a:r>
            <a:r>
              <a:rPr b="1" i="1" lang="de-DE" sz="2400" spc="-1" strike="noStrike">
                <a:solidFill>
                  <a:srgbClr val="0c1d40"/>
                </a:solidFill>
                <a:latin typeface="Verdana"/>
              </a:rPr>
              <a:t>The Glass Menagerie</a:t>
            </a:r>
            <a:r>
              <a:rPr b="1" lang="de-DE" sz="2400" spc="-1" strike="noStrike">
                <a:solidFill>
                  <a:srgbClr val="0c1d40"/>
                </a:solidFill>
                <a:latin typeface="Verdana"/>
              </a:rPr>
              <a:t>, </a:t>
            </a:r>
            <a:r>
              <a:rPr b="1" i="1" lang="de-DE" sz="2400" spc="-1" strike="noStrike">
                <a:solidFill>
                  <a:srgbClr val="0c1d40"/>
                </a:solidFill>
                <a:latin typeface="Verdana"/>
              </a:rPr>
              <a:t>Gata em Teto de Zinco Quente </a:t>
            </a:r>
            <a:r>
              <a:rPr b="1" lang="de-DE" sz="2400" spc="-1" strike="noStrike">
                <a:solidFill>
                  <a:srgbClr val="0c1d40"/>
                </a:solidFill>
                <a:latin typeface="Verdana"/>
              </a:rPr>
              <a:t>e </a:t>
            </a:r>
            <a:r>
              <a:rPr b="1" i="1" lang="de-DE" sz="2400" spc="-1" strike="noStrike">
                <a:solidFill>
                  <a:srgbClr val="0c1d40"/>
                </a:solidFill>
                <a:latin typeface="Verdana"/>
              </a:rPr>
              <a:t>Um Bonde Chamado Desejo</a:t>
            </a:r>
            <a:r>
              <a:rPr b="1" lang="de-DE" sz="2400" spc="-1" strike="noStrike">
                <a:solidFill>
                  <a:srgbClr val="0c1d40"/>
                </a:solidFill>
                <a:latin typeface="Verdana"/>
              </a:rPr>
              <a:t>) termina por reduzir o conjunto de sua obra a aspectos relacionados à descrição de uma cultura sulista e à psicologia das personagens de suas peças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1a9"/>
            </a:gs>
            <a:gs pos="100000">
              <a:srgbClr val="81bec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gradFill rotWithShape="0">
            <a:gsLst>
              <a:gs pos="0">
                <a:srgbClr val="0c1d40"/>
              </a:gs>
              <a:gs pos="50000">
                <a:srgbClr val="1a4292"/>
              </a:gs>
              <a:gs pos="100000">
                <a:srgbClr val="0c1d40"/>
              </a:gs>
            </a:gsLst>
            <a:lin ang="5400000"/>
          </a:gradFill>
          <a:ln w="9360">
            <a:solidFill>
              <a:srgbClr val="6581a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Gungsuh"/>
                <a:ea typeface="Gungsuh"/>
              </a:rPr>
              <a:t>PRODUÇÃO LITERÁ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1d40"/>
                </a:solidFill>
                <a:latin typeface="Verdana"/>
              </a:rPr>
              <a:t>Seus escritos foram produzidos (durante as décadas de 1940, 1950 e 1960, fase mais produtiva do autor). 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c1d40"/>
                </a:solidFill>
                <a:latin typeface="Verdana"/>
              </a:rPr>
              <a:t>Conjunto de obras abrange poesia, conto, romance, mas é mais conhecido pela dramaturgia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c1d40"/>
                </a:solidFill>
                <a:latin typeface="Verdana"/>
              </a:rPr>
              <a:t>Sua obras abrangem todos os gêneros literários, apresentando uma crítica à sociedade americana, por meio dos dramas familiares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c1d40"/>
                </a:solidFill>
                <a:latin typeface="Verdana"/>
              </a:rPr>
              <a:t>Seu teatro busca analisar o macrocosmo da sociedade de classe média americana a partir do espaço individual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1a9"/>
            </a:gs>
            <a:gs pos="100000">
              <a:srgbClr val="81bec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gradFill rotWithShape="0">
            <a:gsLst>
              <a:gs pos="0">
                <a:srgbClr val="0c1d40"/>
              </a:gs>
              <a:gs pos="50000">
                <a:srgbClr val="1a4292"/>
              </a:gs>
              <a:gs pos="100000">
                <a:srgbClr val="0c1d40"/>
              </a:gs>
            </a:gsLst>
            <a:lin ang="5400000"/>
          </a:gradFill>
          <a:ln w="9360">
            <a:solidFill>
              <a:srgbClr val="6581a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Gungsuh"/>
                <a:ea typeface="Gungsuh"/>
              </a:rPr>
              <a:t>PRODUÇÃO LITERÁ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c1d40"/>
                </a:solidFill>
                <a:latin typeface="Verdana"/>
              </a:rPr>
              <a:t>A família é apresentada, mas o foco está nas distorções produzidas pelo sistema ideológico então dominante (ideologia do sucesso e do consumo)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c1d40"/>
                </a:solidFill>
                <a:latin typeface="Verdana"/>
              </a:rPr>
              <a:t>Em suas peças, os temas dominantes são a loucura e a decadência da sociedade sulista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1a9"/>
            </a:gs>
            <a:gs pos="100000">
              <a:srgbClr val="81bec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gradFill rotWithShape="0">
            <a:gsLst>
              <a:gs pos="0">
                <a:srgbClr val="0c1d40"/>
              </a:gs>
              <a:gs pos="50000">
                <a:srgbClr val="1a4292"/>
              </a:gs>
              <a:gs pos="100000">
                <a:srgbClr val="0c1d40"/>
              </a:gs>
            </a:gsLst>
            <a:lin ang="5400000"/>
          </a:gradFill>
          <a:ln w="9360">
            <a:solidFill>
              <a:srgbClr val="6581a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Gungsuh"/>
                <a:ea typeface="Gungsuh"/>
              </a:rPr>
              <a:t>DRAMATURG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c1d40"/>
                </a:solidFill>
                <a:latin typeface="Verdana"/>
              </a:rPr>
              <a:t>Cairo! Shanghai! Bombay!</a:t>
            </a:r>
            <a:r>
              <a:rPr b="1" lang="de-DE" sz="2800" spc="-1" strike="noStrike">
                <a:solidFill>
                  <a:srgbClr val="0c1d40"/>
                </a:solidFill>
                <a:latin typeface="Verdana"/>
              </a:rPr>
              <a:t> (1935) </a:t>
            </a:r>
            <a:endParaRPr b="0" lang="en-US" sz="28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c1d40"/>
                </a:solidFill>
                <a:latin typeface="Verdana"/>
              </a:rPr>
              <a:t>Candles to the Sun</a:t>
            </a:r>
            <a:r>
              <a:rPr b="1" lang="de-DE" sz="2800" spc="-1" strike="noStrike">
                <a:solidFill>
                  <a:srgbClr val="0c1d40"/>
                </a:solidFill>
                <a:latin typeface="Verdana"/>
              </a:rPr>
              <a:t> (1936) </a:t>
            </a:r>
            <a:endParaRPr b="0" lang="en-US" sz="28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c1d40"/>
                </a:solidFill>
                <a:latin typeface="Verdana"/>
              </a:rPr>
              <a:t>The Fugitive Kind</a:t>
            </a:r>
            <a:r>
              <a:rPr b="1" lang="de-DE" sz="2800" spc="-1" strike="noStrike">
                <a:solidFill>
                  <a:srgbClr val="0c1d40"/>
                </a:solidFill>
                <a:latin typeface="Verdana"/>
              </a:rPr>
              <a:t> (1937) </a:t>
            </a:r>
            <a:endParaRPr b="0" lang="en-US" sz="28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c1d40"/>
                </a:solidFill>
                <a:latin typeface="Verdana"/>
              </a:rPr>
              <a:t>The Glass Menagerie</a:t>
            </a:r>
            <a:r>
              <a:rPr b="1" lang="de-DE" sz="2800" spc="-1" strike="noStrike">
                <a:solidFill>
                  <a:srgbClr val="0c1d40"/>
                </a:solidFill>
                <a:latin typeface="Verdana"/>
              </a:rPr>
              <a:t> (1944) </a:t>
            </a:r>
            <a:endParaRPr b="0" lang="en-US" sz="28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c1d40"/>
                </a:solidFill>
                <a:latin typeface="Verdana"/>
              </a:rPr>
              <a:t>Portait of a Madonna</a:t>
            </a:r>
            <a:r>
              <a:rPr b="1" lang="de-DE" sz="2800" spc="-1" strike="noStrike">
                <a:solidFill>
                  <a:srgbClr val="0c1d40"/>
                </a:solidFill>
                <a:latin typeface="Verdana"/>
              </a:rPr>
              <a:t> (1946)</a:t>
            </a:r>
            <a:r>
              <a:rPr b="1" lang="de-DE" sz="3600" spc="-1" strike="noStrike">
                <a:solidFill>
                  <a:srgbClr val="0c1d4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c1d40"/>
                </a:solidFill>
                <a:latin typeface="Verdana"/>
              </a:rPr>
              <a:t>A Streetcar named Desire</a:t>
            </a:r>
            <a:r>
              <a:rPr b="1" lang="de-DE" sz="2800" spc="-1" strike="noStrike">
                <a:solidFill>
                  <a:srgbClr val="0c1d40"/>
                </a:solidFill>
                <a:latin typeface="Verdana"/>
              </a:rPr>
              <a:t> (1947) </a:t>
            </a:r>
            <a:endParaRPr b="0" lang="en-US" sz="28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c1d40"/>
                </a:solidFill>
                <a:latin typeface="Verdana"/>
              </a:rPr>
              <a:t>Camino real</a:t>
            </a:r>
            <a:r>
              <a:rPr b="1" lang="de-DE" sz="2800" spc="-1" strike="noStrike">
                <a:solidFill>
                  <a:srgbClr val="0c1d40"/>
                </a:solidFill>
                <a:latin typeface="Verdana"/>
              </a:rPr>
              <a:t> (1953) </a:t>
            </a:r>
            <a:endParaRPr b="0" lang="en-US" sz="2800" spc="-1" strike="noStrike">
              <a:solidFill>
                <a:srgbClr val="0c1d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1d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1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1a9"/>
            </a:gs>
            <a:gs pos="100000">
              <a:srgbClr val="81bec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22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c1d40"/>
                </a:solidFill>
                <a:latin typeface="Verdana"/>
              </a:rPr>
              <a:t>Cat on a Hot Tin Roof</a:t>
            </a:r>
            <a:r>
              <a:rPr b="1" lang="de-DE" sz="2800" spc="-1" strike="noStrike">
                <a:solidFill>
                  <a:srgbClr val="0c1d40"/>
                </a:solidFill>
                <a:latin typeface="Verdana"/>
              </a:rPr>
              <a:t> (1955)</a:t>
            </a:r>
            <a:endParaRPr b="0" lang="en-US" sz="28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c1d40"/>
                </a:solidFill>
                <a:latin typeface="Verdana"/>
              </a:rPr>
              <a:t>The Dark Room</a:t>
            </a:r>
            <a:r>
              <a:rPr b="1" lang="de-DE" sz="2800" spc="-1" strike="noStrike">
                <a:solidFill>
                  <a:srgbClr val="0c1d40"/>
                </a:solidFill>
                <a:latin typeface="Verdana"/>
              </a:rPr>
              <a:t> (1956) </a:t>
            </a:r>
            <a:endParaRPr b="0" lang="en-US" sz="28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c1d40"/>
                </a:solidFill>
                <a:latin typeface="Verdana"/>
              </a:rPr>
              <a:t>Baby Doll</a:t>
            </a:r>
            <a:r>
              <a:rPr b="1" lang="de-DE" sz="2800" spc="-1" strike="noStrike">
                <a:solidFill>
                  <a:srgbClr val="0c1d40"/>
                </a:solidFill>
                <a:latin typeface="Verdana"/>
              </a:rPr>
              <a:t> (1956)</a:t>
            </a:r>
            <a:endParaRPr b="0" lang="en-US" sz="28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c1d40"/>
                </a:solidFill>
                <a:latin typeface="Verdana"/>
              </a:rPr>
              <a:t>Orpheus Descending</a:t>
            </a:r>
            <a:r>
              <a:rPr b="1" lang="de-DE" sz="2800" spc="-1" strike="noStrike">
                <a:solidFill>
                  <a:srgbClr val="0c1d40"/>
                </a:solidFill>
                <a:latin typeface="Verdana"/>
              </a:rPr>
              <a:t> (1957) </a:t>
            </a:r>
            <a:endParaRPr b="0" lang="en-US" sz="28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c1d40"/>
                </a:solidFill>
                <a:latin typeface="Verdana"/>
              </a:rPr>
              <a:t>Suddenly, last summer</a:t>
            </a:r>
            <a:r>
              <a:rPr b="1" lang="de-DE" sz="2800" spc="-1" strike="noStrike">
                <a:solidFill>
                  <a:srgbClr val="0c1d40"/>
                </a:solidFill>
                <a:latin typeface="Verdana"/>
              </a:rPr>
              <a:t> (1958) </a:t>
            </a:r>
            <a:endParaRPr b="0" lang="en-US" sz="28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c1d40"/>
                </a:solidFill>
                <a:latin typeface="Verdana"/>
              </a:rPr>
              <a:t>The night of the Iguana</a:t>
            </a:r>
            <a:r>
              <a:rPr b="1" lang="de-DE" sz="2800" spc="-1" strike="noStrike">
                <a:solidFill>
                  <a:srgbClr val="0c1d40"/>
                </a:solidFill>
                <a:latin typeface="Verdana"/>
              </a:rPr>
              <a:t> (1961) </a:t>
            </a:r>
            <a:endParaRPr b="0" lang="en-US" sz="28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c1d40"/>
                </a:solidFill>
                <a:latin typeface="Verdana"/>
              </a:rPr>
              <a:t>The milk train doesn‘t stop here anymore</a:t>
            </a:r>
            <a:r>
              <a:rPr b="1" lang="de-DE" sz="2800" spc="-1" strike="noStrike">
                <a:solidFill>
                  <a:srgbClr val="0c1d40"/>
                </a:solidFill>
                <a:latin typeface="Verdana"/>
              </a:rPr>
              <a:t> (1963) </a:t>
            </a:r>
            <a:endParaRPr b="0" lang="en-US" sz="2800" spc="-1" strike="noStrike">
              <a:solidFill>
                <a:srgbClr val="0c1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gradFill rotWithShape="0">
            <a:gsLst>
              <a:gs pos="0">
                <a:srgbClr val="0c1d40"/>
              </a:gs>
              <a:gs pos="50000">
                <a:srgbClr val="1a4292"/>
              </a:gs>
              <a:gs pos="100000">
                <a:srgbClr val="0c1d40"/>
              </a:gs>
            </a:gsLst>
            <a:lin ang="5400000"/>
          </a:gradFill>
          <a:ln w="9360">
            <a:solidFill>
              <a:srgbClr val="6581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DRAMATURG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1a9"/>
            </a:gs>
            <a:gs pos="100000">
              <a:srgbClr val="81bec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gradFill rotWithShape="0">
            <a:gsLst>
              <a:gs pos="0">
                <a:srgbClr val="0c1d40"/>
              </a:gs>
              <a:gs pos="50000">
                <a:srgbClr val="1a4292"/>
              </a:gs>
              <a:gs pos="100000">
                <a:srgbClr val="0c1d40"/>
              </a:gs>
            </a:gsLst>
            <a:lin ang="5400000"/>
          </a:gradFill>
          <a:ln w="9360">
            <a:solidFill>
              <a:srgbClr val="6581a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FIL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c1d40"/>
                </a:solidFill>
                <a:latin typeface="Verdana"/>
              </a:rPr>
              <a:t>Muitas das suas peças de maior sucesso foram adaptadas ao cinema, inclusive as famosas produções de: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c1d40"/>
                </a:solidFill>
                <a:latin typeface="Verdana"/>
              </a:rPr>
              <a:t>1951: A streetcar named Desire com atuações consideradas antológicas de Marlon Brando e Vivien Leigh; 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c1d40"/>
                </a:solidFill>
                <a:latin typeface="Verdana"/>
              </a:rPr>
              <a:t>1958 Cat on a Hot Tin Roof, com Elizabeth Taylor e Paul Newman. 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c1d40"/>
                </a:solidFill>
                <a:latin typeface="Verdana"/>
              </a:rPr>
              <a:t>1959 Suddenly, last summer, com Elizabeth Taylor e Katharine Hepburn. 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c1d40"/>
                </a:solidFill>
                <a:latin typeface="Verdana"/>
              </a:rPr>
              <a:t>1962 Sweet bird of youth com Paul Newman 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1a9"/>
            </a:gs>
            <a:gs pos="100000">
              <a:srgbClr val="81bec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371600"/>
          </a:xfrm>
          <a:prstGeom prst="rect">
            <a:avLst/>
          </a:prstGeom>
          <a:gradFill rotWithShape="0">
            <a:gsLst>
              <a:gs pos="0">
                <a:srgbClr val="0c1d40"/>
              </a:gs>
              <a:gs pos="50000">
                <a:srgbClr val="1a4292"/>
              </a:gs>
              <a:gs pos="100000">
                <a:srgbClr val="0c1d40"/>
              </a:gs>
            </a:gsLst>
            <a:lin ang="5400000"/>
          </a:gradFill>
          <a:ln w="9360">
            <a:solidFill>
              <a:srgbClr val="6581a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imes New Roman"/>
              </a:rPr>
              <a:t>UM BONDE CHAMADO DESEJ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16360" y="2057400"/>
            <a:ext cx="500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c1d40"/>
                </a:solidFill>
                <a:latin typeface="Arial"/>
              </a:rPr>
              <a:t>Escrita em 1947, montada pela primeira vez por Elia Kazam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  <a:p>
            <a:pPr marL="329040" indent="-329040" algn="ctr">
              <a:lnSpc>
                <a:spcPct val="80000"/>
              </a:lnSpc>
              <a:spcBef>
                <a:spcPts val="601"/>
              </a:spcBef>
              <a:buClr>
                <a:srgbClr val="1a4292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1d40"/>
                </a:solidFill>
                <a:latin typeface="Arial"/>
              </a:rPr>
              <a:t>Resumo: uma mulher do sul dos EUA, Blanche DuBois, vai morar com sua irmã Stella e o cunhado, Stanley Kowalski. Ela não tem mais pra onde ir. Frágil e fantasiosa, ela entra em combate contra os modos rudes de Stanley, que a violenta na noite em que Stella dá à luz na maternidade. Blanche termina sendo levada para um manicômio. </a:t>
            </a:r>
            <a:endParaRPr b="0" lang="en-US" sz="2400" spc="-1" strike="noStrike">
              <a:solidFill>
                <a:srgbClr val="0c1d40"/>
              </a:solidFill>
              <a:latin typeface="Arial"/>
            </a:endParaRPr>
          </a:p>
        </p:txBody>
      </p:sp>
      <p:pic>
        <p:nvPicPr>
          <p:cNvPr id="127" name="" descr="Streetcar turns 50"/>
          <p:cNvPicPr/>
          <p:nvPr/>
        </p:nvPicPr>
        <p:blipFill>
          <a:blip r:embed="rId1"/>
          <a:stretch/>
        </p:blipFill>
        <p:spPr>
          <a:xfrm>
            <a:off x="324000" y="1916280"/>
            <a:ext cx="2447640" cy="2160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437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c1d40"/>
                </a:solidFill>
                <a:latin typeface="Times New Roman"/>
              </a:rPr>
              <a:t>MARLON BRANDO, VIVIEN LEIGH </a:t>
            </a:r>
            <a:endParaRPr b="0" lang="en-US" sz="1800" spc="-1" strike="noStrike">
              <a:solidFill>
                <a:srgbClr val="1a42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1:32:20Z</dcterms:created>
  <dc:creator>SSTROBEL</dc:creator>
  <dc:description/>
  <dc:language>en-US</dc:language>
  <cp:lastModifiedBy>SSTROBEL</cp:lastModifiedBy>
  <dcterms:modified xsi:type="dcterms:W3CDTF">2006-12-18T15:49:41Z</dcterms:modified>
  <cp:revision>11</cp:revision>
  <dc:subject/>
  <dc:title>TENNESSEE WILLIAMS</dc:title>
</cp:coreProperties>
</file>