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0F8-E097-4E1F-8164-F589E02F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2E3-F566-4A53-8DC7-2432B347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263-78DC-447C-8140-75A31A61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1BE-3644-4E53-9224-B843EC09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19F-97EA-4EDD-9CDE-4D805FD1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E51-0099-4BCD-AACF-D9025BCD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2DA-18AD-481B-A55C-4445B2FF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998-9012-4C13-9CB1-8AD93B72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F10-8489-4435-B715-7EABF69B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A79-50CC-4E5F-B7ED-3E23E56B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BF3-715B-495C-9BDC-64CD93E8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559-01E6-442E-83E1-7BA8D57E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168B-CF75-46D2-8A45-302A8BA02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228600"/>
            <a:ext cx="8822880" cy="5792760"/>
            <a:chOff x="685800" y="228600"/>
            <a:chExt cx="8822880" cy="5792760"/>
          </a:xfrm>
        </p:grpSpPr>
        <p:sp>
          <p:nvSpPr>
            <p:cNvPr id="42" name=""/>
            <p:cNvSpPr/>
            <p:nvPr/>
          </p:nvSpPr>
          <p:spPr>
            <a:xfrm>
              <a:off x="685800" y="263520"/>
              <a:ext cx="2158920" cy="57578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52880" y="230400"/>
              <a:ext cx="2158560" cy="57578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5400000">
              <a:off x="2789280" y="2062800"/>
              <a:ext cx="2158920" cy="57574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627600" y="228600"/>
              <a:ext cx="2879280" cy="3603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29040" y="5661000"/>
              <a:ext cx="2879640" cy="3603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5400000">
              <a:off x="6542280" y="2907720"/>
              <a:ext cx="5562720" cy="360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914400" y="6248520"/>
            <a:ext cx="900000" cy="307080"/>
            <a:chOff x="914400" y="6248520"/>
            <a:chExt cx="900000" cy="307080"/>
          </a:xfrm>
        </p:grpSpPr>
        <p:sp>
          <p:nvSpPr>
            <p:cNvPr id="49" name=""/>
            <p:cNvSpPr/>
            <p:nvPr/>
          </p:nvSpPr>
          <p:spPr>
            <a:xfrm>
              <a:off x="914400" y="6389640"/>
              <a:ext cx="90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41920" y="6248520"/>
              <a:ext cx="534240" cy="30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 lá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57146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öldsz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086600" y="380880"/>
            <a:ext cx="2057400" cy="1523880"/>
            <a:chOff x="7086600" y="380880"/>
            <a:chExt cx="2057400" cy="1523880"/>
          </a:xfrm>
        </p:grpSpPr>
        <p:sp>
          <p:nvSpPr>
            <p:cNvPr id="53" name=""/>
            <p:cNvSpPr/>
            <p:nvPr/>
          </p:nvSpPr>
          <p:spPr>
            <a:xfrm>
              <a:off x="7086600" y="380880"/>
              <a:ext cx="2057400" cy="1523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299360" y="957960"/>
              <a:ext cx="16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ktára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086600" y="4876920"/>
            <a:ext cx="2057400" cy="914400"/>
            <a:chOff x="7086600" y="4876920"/>
            <a:chExt cx="2057400" cy="914400"/>
          </a:xfrm>
        </p:grpSpPr>
        <p:sp>
          <p:nvSpPr>
            <p:cNvPr id="56" name=""/>
            <p:cNvSpPr/>
            <p:nvPr/>
          </p:nvSpPr>
          <p:spPr>
            <a:xfrm>
              <a:off x="7086600" y="4876920"/>
              <a:ext cx="205740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99360" y="5223240"/>
              <a:ext cx="16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áll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952880" y="2209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895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218440" y="3428640"/>
            <a:ext cx="914400" cy="1446120"/>
            <a:chOff x="8218440" y="3428640"/>
            <a:chExt cx="914400" cy="1446120"/>
          </a:xfrm>
        </p:grpSpPr>
        <p:sp>
          <p:nvSpPr>
            <p:cNvPr id="61" name=""/>
            <p:cNvSpPr/>
            <p:nvPr/>
          </p:nvSpPr>
          <p:spPr>
            <a:xfrm rot="16200000">
              <a:off x="7952400" y="3694320"/>
              <a:ext cx="144612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8340840" y="3905280"/>
              <a:ext cx="83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í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8229600" y="1904760"/>
            <a:ext cx="914400" cy="1523880"/>
            <a:chOff x="8229600" y="1904760"/>
            <a:chExt cx="914400" cy="1523880"/>
          </a:xfrm>
        </p:grpSpPr>
        <p:sp>
          <p:nvSpPr>
            <p:cNvPr id="64" name=""/>
            <p:cNvSpPr/>
            <p:nvPr/>
          </p:nvSpPr>
          <p:spPr>
            <a:xfrm rot="16200000">
              <a:off x="7924680" y="2209320"/>
              <a:ext cx="15238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6200000">
              <a:off x="8178840" y="241452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rak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393880" y="23274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tjár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4382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895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26800" y="24382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tjár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380880"/>
            <a:ext cx="2133360" cy="0"/>
          </a:xfrm>
          <a:prstGeom prst="line">
            <a:avLst/>
          </a:prstGeom>
          <a:ln w="127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28600"/>
            <a:ext cx="685800" cy="2286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2720" y="422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1480" y="5715000"/>
            <a:ext cx="28954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5715000"/>
            <a:ext cx="0" cy="8380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990360" y="5715000"/>
            <a:ext cx="51814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90720" y="1752120"/>
            <a:ext cx="0" cy="39625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1840" y="59436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út fe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533520"/>
            <a:ext cx="1295640" cy="1371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98200" y="650880"/>
            <a:ext cx="11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cst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7760" y="51814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itkos átjáró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4648320"/>
            <a:ext cx="1295640" cy="99036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4648320"/>
            <a:ext cx="1295640" cy="99036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4320" y="4740120"/>
            <a:ext cx="22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K-k      szobá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048120"/>
            <a:ext cx="1295280" cy="99036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360" y="3124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rdő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685800" y="228600"/>
            <a:ext cx="8822880" cy="5792760"/>
            <a:chOff x="685800" y="228600"/>
            <a:chExt cx="8822880" cy="5792760"/>
          </a:xfrm>
        </p:grpSpPr>
        <p:sp>
          <p:nvSpPr>
            <p:cNvPr id="87" name=""/>
            <p:cNvSpPr/>
            <p:nvPr/>
          </p:nvSpPr>
          <p:spPr>
            <a:xfrm>
              <a:off x="685800" y="263520"/>
              <a:ext cx="2158920" cy="57578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52880" y="230400"/>
              <a:ext cx="2158560" cy="57578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2789280" y="2062800"/>
              <a:ext cx="2158920" cy="57574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7600" y="228600"/>
              <a:ext cx="2879280" cy="3603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29040" y="5661000"/>
              <a:ext cx="2879640" cy="3603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5400000">
              <a:off x="6542280" y="2907720"/>
              <a:ext cx="5562720" cy="360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914400" y="6248520"/>
            <a:ext cx="900000" cy="307080"/>
            <a:chOff x="914400" y="6248520"/>
            <a:chExt cx="900000" cy="307080"/>
          </a:xfrm>
        </p:grpSpPr>
        <p:sp>
          <p:nvSpPr>
            <p:cNvPr id="94" name=""/>
            <p:cNvSpPr/>
            <p:nvPr/>
          </p:nvSpPr>
          <p:spPr>
            <a:xfrm>
              <a:off x="914400" y="6389640"/>
              <a:ext cx="90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41920" y="6248520"/>
              <a:ext cx="534240" cy="30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 lá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57146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ső eme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990360" y="5486400"/>
            <a:ext cx="51814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9400" y="548640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itkos átjáró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638680"/>
            <a:ext cx="5943600" cy="22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-1828800" y="3047760"/>
            <a:ext cx="5410080" cy="22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53240" y="1522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édőjáratok lőrések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42640" y="838080"/>
            <a:ext cx="11430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371240" y="838080"/>
            <a:ext cx="1066680" cy="472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281952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6067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jár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udva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419720"/>
            <a:ext cx="1295640" cy="99036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4419720"/>
            <a:ext cx="1447920" cy="99036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49568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ra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obá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7080" y="46134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önyvt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5383080"/>
            <a:ext cx="0" cy="179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5230800"/>
            <a:ext cx="0" cy="179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343400" y="5230800"/>
            <a:ext cx="0" cy="179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981080"/>
            <a:ext cx="1447920" cy="99072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04200" y="2251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bédl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2600" y="48006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épcs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efe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000" y="46483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épcs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elfe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6680" y="5486400"/>
            <a:ext cx="0" cy="179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85800" y="228600"/>
            <a:ext cx="8822880" cy="5792760"/>
            <a:chOff x="685800" y="228600"/>
            <a:chExt cx="8822880" cy="5792760"/>
          </a:xfrm>
        </p:grpSpPr>
        <p:sp>
          <p:nvSpPr>
            <p:cNvPr id="119" name=""/>
            <p:cNvSpPr/>
            <p:nvPr/>
          </p:nvSpPr>
          <p:spPr>
            <a:xfrm>
              <a:off x="685800" y="263520"/>
              <a:ext cx="2158920" cy="57578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52880" y="230400"/>
              <a:ext cx="2158560" cy="57578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2789280" y="2062800"/>
              <a:ext cx="2158920" cy="57574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27600" y="228600"/>
              <a:ext cx="2879280" cy="3603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040" y="5661000"/>
              <a:ext cx="2879640" cy="3603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6542280" y="2907720"/>
              <a:ext cx="5562720" cy="360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514600" y="6248520"/>
            <a:ext cx="900000" cy="307080"/>
            <a:chOff x="2514600" y="6248520"/>
            <a:chExt cx="900000" cy="307080"/>
          </a:xfrm>
        </p:grpSpPr>
        <p:sp>
          <p:nvSpPr>
            <p:cNvPr id="126" name=""/>
            <p:cNvSpPr/>
            <p:nvPr/>
          </p:nvSpPr>
          <p:spPr>
            <a:xfrm>
              <a:off x="2514600" y="6389640"/>
              <a:ext cx="90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2120" y="6248520"/>
              <a:ext cx="534240" cy="30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 lá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7146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ásodik eme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4267080"/>
            <a:ext cx="1447560" cy="167652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0280" y="4419720"/>
            <a:ext cx="12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tró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obá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981080"/>
            <a:ext cx="1447920" cy="99072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04200" y="2251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bédl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5715000"/>
            <a:ext cx="0" cy="179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0400" y="48006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épcs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efe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791320"/>
            <a:ext cx="457200" cy="533160"/>
          </a:xfrm>
          <a:prstGeom prst="ellipse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6160" y="586728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onyszo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09:24:02Z</dcterms:created>
  <dc:creator>Szabó Zsolt</dc:creator>
  <dc:description/>
  <dc:language>en-US</dc:language>
  <cp:lastModifiedBy>Szabó Zsolt</cp:lastModifiedBy>
  <dcterms:modified xsi:type="dcterms:W3CDTF">2002-02-04T10:13:17Z</dcterms:modified>
  <cp:revision>21</cp:revision>
  <dc:subject/>
  <dc:title>Nincs diacím</dc:title>
</cp:coreProperties>
</file>